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9.gif" ContentType="image/gif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cc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CD323-E590-43BA-A4A4-FE28D86C60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Immune system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By the end of the lesson you should be able to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Outline the stages in phagocytosis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Describe how antibodies work and how they are specific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he end of the lesson you should be able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line the stages in phagocyto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how antibodies work and how they are specif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Lymphocyte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ymphocy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Lymphocyte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Provide a specific immune response to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infectious diseases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There are 2 types: -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- T-cells 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- B-cell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They produce antibodies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a specific immune response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ectious dise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2 types: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-cell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-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produce antibod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Antigen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all cells have surface markers called antigens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body can recognise these as self or non-self (foreign)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ells have surface markers called antig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can recognise these as self or non-self (foreig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Specific response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Lymphocytes detect presence of foreign antigen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Stimulated to produce 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specific proteins called 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antibodies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mphocytes detect presence of foreign anti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mulated to produ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 proteins call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antibodies combine with their specific antigen (like a lock and key)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this renders the pathogen harmless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= primary response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ies combine with their specific antigen (like a lock and k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renders the pathogen harml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primary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Immunity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=  the bodies ability to resist infection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can be natural or acquired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the bodies ability to resist in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natural or ac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Immunological memory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after an infection is fought off some lymphocytes become memory cells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if same pathogen returns memory cells stimulate the produce the specific antibody very rapidly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the infection is fought off before symptoms appear = secondary response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vaccines can stimulate same response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ological mem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an infection is fought off some lymphocytes become memory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same pathogen returns memory cells stimulate the produce the specific antibody very rapid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fection is fought off before symptoms appear = secondary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cines can stimulate sam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Immune system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Can you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Outline the stages in phagocytosis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Describe how antibodies work and how they are specific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line the stages in phagocyto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how antibodies work and how they are specif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First lines of defence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skin prevents entry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tears              antibacterial               enzyme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saliva antibacterial               enzyme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stomach acid              low pH kills harmful microbe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mucus linings traps dirt and microbe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good” gut bacteria out compete bad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rst lines of def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kin prevents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ars              antibacterial              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liva antibacterial              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omach acid              low pH kills harmful micr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ucus linings traps dirt and micr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od” gut bacteria out compete b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Pathogen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= disease causing micro-organism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bacteria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viru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fungi, 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protozoa, 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parasite, 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prion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th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disease causing micro-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ngi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ozoa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asit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Second lines of defence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Involves white blood cell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Non-specific response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invading pathogens are targeted by macrophage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Specific response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lymphocytes produce chemicals called antibodies that target specific pathogen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lines of def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olves white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specific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ding pathogens are targeted by macroph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mphocytes produce chemicals called antibodies that target specific path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Phagocyte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ag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Phagocyte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Monocytes and macrophage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Provide a non-specific response to infection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http://www.microbelibrary.org/images/tterry/anim/phago053.html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g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cytes and macroph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a non-specific response to in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icrobelibrary.org/images/tterry/anim/phago053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Phagocytosi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Stages in phagocytosi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Phagocyte detects chemicals released by a foreign intruder (e.g. bacteria)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Phagocyte moves up the concentration gradient towards the intruder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The phagocyte adheres to the foreign cell and engulfs it in a vacuole by an infolding of the cell membrane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Lysosomes (organelles which are rich in digestive enzymes &amp; found in the phagocytes cytoplasm) fuse with the vacuole &amp; release their contents into it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gocy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s in phagocy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gocyte detects chemicals released by a foreign intruder (e.g. bacteri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gocyte moves up the concentration gradient towards the intru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agocyte adheres to the foreign cell and engulfs it in a vacuole by an infolding of the cell membr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sosomes (organelles which are rich in digestive enzymes &amp; found in the phagocytes cytoplasm) fuse with the vacuole &amp; release their contents in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Phagocytosi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The bacterium is digested by the enzymes, and the breakdown products are absorbed by the phagocyte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During infection, hundreds of phagocytes are needed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Pus is dead bacteria and phagocytes!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link to phagocytosi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gocy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cterium is digested by the enzymes, and the breakdown products are absorbed by the phagocy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infection, hundreds of phagocytes are nee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s is dead bacteria and phagocyt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to phagocy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Pu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An accumulation of : -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dead phagocyte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destroyed bacteria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dead cell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ccumulation of :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d phag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royed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390F-24D6-49A4-AA43-BF00E56FA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1150-E066-4155-994F-160A26136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89DC-2ACB-44CC-B04A-CDF962B91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9F4E-40BA-493F-B10D-E0E575B5B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3E215-F734-43FD-9930-845CC96A5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6222F-F800-4F76-BB4D-AFAF63850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A85EC-A82D-447C-A593-E428129E1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C79E8-9068-48F6-A47C-B47E443E0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F855A-7609-4D49-B997-73DE083D1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CFF39-1A80-4267-A3C2-1ACEE60E3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03A18-94C8-4513-A9A9-7FC59396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A608-A0BD-452C-BD96-572415345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97FFF-C138-46B9-B08F-28EC51BD4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0EC7F-20B0-46F4-9AF5-F98648A38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398C8-9F5D-4F3C-A5AC-BC4064359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7C02D-B0EE-4C08-950D-4743C5481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85F3E-FC1E-43CE-B9B1-BBD752AB1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6243-95A5-4D1E-8EDF-B569C2BA6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AE79-85B0-4CB4-9DEF-251833C01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9706-2BFE-48D4-9BE0-AD913E42A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588D-241E-4152-A4A9-A3EB511B9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0C8C-C2B7-4946-86B6-F1AC02726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BE04-0765-4854-B348-E61B5E28E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5859-1949-4537-8191-843892173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cc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00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00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00ccff"/>
          </a:solidFill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EB3C9-2CF8-4659-BB98-62569E4D776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00ccff"/>
          </a:solidFill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cc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00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00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3E405-E35E-40F2-BD0F-ED071099FEBF}" type="slidenum">
              <a:rPr b="0" lang="en-US" sz="1200" spc="-1" strike="noStrike">
                <a:solidFill>
                  <a:srgbClr val="0033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icrobelibrary.org/images/tterry/anim/phago053.html" TargetMode="External"/><Relationship Id="rId2" Type="http://schemas.openxmlformats.org/officeDocument/2006/relationships/image" Target="../media/image9.gi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Immune system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By the end of the lesson you should be able to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Outline the stages in phagocytosis.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Describe how antibodies work and how they are specific.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cc"/>
                </a:solidFill>
                <a:latin typeface="Comic Sans MS"/>
              </a:rPr>
              <a:t>Lymphocyte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pic>
        <p:nvPicPr>
          <p:cNvPr id="132" name="Picture 3" descr="Blood"/>
          <p:cNvPicPr/>
          <p:nvPr/>
        </p:nvPicPr>
        <p:blipFill>
          <a:blip r:embed="rId1"/>
          <a:srcRect l="0" t="22747" r="0" b="0"/>
          <a:stretch/>
        </p:blipFill>
        <p:spPr>
          <a:xfrm>
            <a:off x="1619280" y="1413000"/>
            <a:ext cx="5832360" cy="4506840"/>
          </a:xfrm>
          <a:prstGeom prst="rect">
            <a:avLst/>
          </a:prstGeom>
          <a:ln w="0">
            <a:noFill/>
          </a:ln>
        </p:spPr>
      </p:pic>
      <p:sp>
        <p:nvSpPr>
          <p:cNvPr id="133" name="Line 4"/>
          <p:cNvSpPr/>
          <p:nvPr/>
        </p:nvSpPr>
        <p:spPr>
          <a:xfrm flipV="1">
            <a:off x="684360" y="3573360"/>
            <a:ext cx="1439640" cy="287280"/>
          </a:xfrm>
          <a:prstGeom prst="line">
            <a:avLst/>
          </a:prstGeom>
          <a:ln w="38160">
            <a:solidFill>
              <a:srgbClr val="00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cc"/>
                </a:solidFill>
                <a:latin typeface="Comic Sans MS"/>
              </a:rPr>
              <a:t>Lymphocytes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Provide a </a:t>
            </a:r>
            <a:r>
              <a:rPr b="1" lang="en-GB" sz="3000" spc="-1" strike="noStrike">
                <a:solidFill>
                  <a:srgbClr val="003399"/>
                </a:solidFill>
                <a:latin typeface="Comic Sans MS"/>
              </a:rPr>
              <a:t>specific immune response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 to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infectious diseases.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There are 2 types: -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- T-cells 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- B-cells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They produce </a:t>
            </a:r>
            <a:r>
              <a:rPr b="1" lang="en-GB" sz="3000" spc="-1" strike="noStrike">
                <a:solidFill>
                  <a:srgbClr val="003399"/>
                </a:solidFill>
                <a:latin typeface="Comic Sans MS"/>
              </a:rPr>
              <a:t>antibodies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.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136" name="Picture 4" descr="lymphocytes"/>
          <p:cNvPicPr/>
          <p:nvPr/>
        </p:nvPicPr>
        <p:blipFill>
          <a:blip r:embed="rId1"/>
          <a:stretch/>
        </p:blipFill>
        <p:spPr>
          <a:xfrm>
            <a:off x="971640" y="2708280"/>
            <a:ext cx="2232000" cy="22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001000" cy="82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              </a:t>
            </a: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Antigens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40705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all cells have surface markers called </a:t>
            </a:r>
            <a:r>
              <a:rPr b="1" lang="en-GB" sz="3000" spc="-1" strike="noStrike">
                <a:solidFill>
                  <a:srgbClr val="003399"/>
                </a:solidFill>
                <a:latin typeface="Comic Sans MS"/>
              </a:rPr>
              <a:t>antigens.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body can recognise these as </a:t>
            </a:r>
            <a:r>
              <a:rPr b="1" lang="en-GB" sz="3000" spc="-1" strike="noStrike">
                <a:solidFill>
                  <a:srgbClr val="003399"/>
                </a:solidFill>
                <a:latin typeface="Comic Sans MS"/>
              </a:rPr>
              <a:t>self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 or </a:t>
            </a:r>
            <a:r>
              <a:rPr b="1" lang="en-GB" sz="3000" spc="-1" strike="noStrike">
                <a:solidFill>
                  <a:srgbClr val="003399"/>
                </a:solidFill>
                <a:latin typeface="Comic Sans MS"/>
              </a:rPr>
              <a:t>non-self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 (foreign)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139" name="Picture 4" descr="Bacteria covered in antigens"/>
          <p:cNvPicPr/>
          <p:nvPr/>
        </p:nvPicPr>
        <p:blipFill>
          <a:blip r:embed="rId1"/>
          <a:stretch/>
        </p:blipFill>
        <p:spPr>
          <a:xfrm>
            <a:off x="5651640" y="3213000"/>
            <a:ext cx="2881080" cy="28814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antigens"/>
          <p:cNvPicPr/>
          <p:nvPr/>
        </p:nvPicPr>
        <p:blipFill>
          <a:blip r:embed="rId2"/>
          <a:srcRect l="0" t="0" r="57708" b="56708"/>
          <a:stretch/>
        </p:blipFill>
        <p:spPr>
          <a:xfrm>
            <a:off x="5724360" y="907920"/>
            <a:ext cx="2089440" cy="20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66cc"/>
                </a:solidFill>
                <a:latin typeface="Comic Sans MS"/>
              </a:rPr>
              <a:t>Specific response</a:t>
            </a:r>
            <a:endParaRPr b="0" lang="en-US" sz="40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Lymphocytes detect presence of foreign antigens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Stimulated to produce 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   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specific proteins called 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   </a:t>
            </a:r>
            <a:r>
              <a:rPr b="1" lang="en-GB" sz="3000" spc="-1" strike="noStrike">
                <a:solidFill>
                  <a:srgbClr val="003399"/>
                </a:solidFill>
                <a:latin typeface="Comic Sans MS"/>
              </a:rPr>
              <a:t>antibodies.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graphicFrame>
        <p:nvGraphicFramePr>
          <p:cNvPr id="143" name="Object 4"/>
          <p:cNvGraphicFramePr/>
          <p:nvPr/>
        </p:nvGraphicFramePr>
        <p:xfrm>
          <a:off x="5435640" y="2492280"/>
          <a:ext cx="2916360" cy="30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35640" y="2492280"/>
                    <a:ext cx="291636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antibodies combine with their specific antigen (like a lock and key)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this renders the pathogen harmless.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= </a:t>
            </a:r>
            <a:r>
              <a:rPr b="1" lang="en-GB" sz="3000" spc="-1" strike="noStrike">
                <a:solidFill>
                  <a:srgbClr val="003399"/>
                </a:solidFill>
                <a:latin typeface="Comic Sans MS"/>
              </a:rPr>
              <a:t>primary response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grpSp>
        <p:nvGrpSpPr>
          <p:cNvPr id="146" name="Group 3"/>
          <p:cNvGrpSpPr/>
          <p:nvPr/>
        </p:nvGrpSpPr>
        <p:grpSpPr>
          <a:xfrm>
            <a:off x="1763640" y="1773360"/>
            <a:ext cx="5472360" cy="2952720"/>
            <a:chOff x="1763640" y="1773360"/>
            <a:chExt cx="5472360" cy="2952720"/>
          </a:xfrm>
        </p:grpSpPr>
        <p:pic>
          <p:nvPicPr>
            <p:cNvPr id="147" name="Picture 4" descr="antibodieaction2"/>
            <p:cNvPicPr/>
            <p:nvPr/>
          </p:nvPicPr>
          <p:blipFill>
            <a:blip r:embed="rId1"/>
            <a:stretch/>
          </p:blipFill>
          <p:spPr>
            <a:xfrm>
              <a:off x="1763640" y="1773360"/>
              <a:ext cx="5472360" cy="29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Rectangle 5"/>
            <p:cNvSpPr/>
            <p:nvPr/>
          </p:nvSpPr>
          <p:spPr>
            <a:xfrm>
              <a:off x="4050000" y="3147120"/>
              <a:ext cx="554040" cy="2059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579600"/>
            <a:ext cx="8001000" cy="73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Immunity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2050560"/>
            <a:ext cx="8001000" cy="39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=  the bodies ability to resist infection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can be </a:t>
            </a:r>
            <a:r>
              <a:rPr b="1" lang="en-GB" sz="3000" spc="-1" strike="noStrike" u="sng">
                <a:solidFill>
                  <a:srgbClr val="003399"/>
                </a:solidFill>
                <a:uFillTx/>
                <a:latin typeface="Comic Sans MS"/>
              </a:rPr>
              <a:t>natural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 or </a:t>
            </a:r>
            <a:r>
              <a:rPr b="1" lang="en-GB" sz="3000" spc="-1" strike="noStrike" u="sng">
                <a:solidFill>
                  <a:srgbClr val="003399"/>
                </a:solidFill>
                <a:uFillTx/>
                <a:latin typeface="Comic Sans MS"/>
              </a:rPr>
              <a:t>acquired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Immunological memory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99"/>
                </a:solidFill>
                <a:latin typeface="Comic Sans MS"/>
              </a:rPr>
              <a:t>after an infection is fought off some lymphocytes become </a:t>
            </a:r>
            <a:r>
              <a:rPr b="1" lang="en-GB" sz="2600" spc="-1" strike="noStrike">
                <a:solidFill>
                  <a:srgbClr val="003399"/>
                </a:solidFill>
                <a:latin typeface="Comic Sans MS"/>
              </a:rPr>
              <a:t>memory</a:t>
            </a:r>
            <a:r>
              <a:rPr b="0" lang="en-GB" sz="26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en-GB" sz="2600" spc="-1" strike="noStrike">
                <a:solidFill>
                  <a:srgbClr val="003399"/>
                </a:solidFill>
                <a:latin typeface="Comic Sans MS"/>
              </a:rPr>
              <a:t>cells</a:t>
            </a:r>
            <a:r>
              <a:rPr b="0" lang="en-GB" sz="2600" spc="-1" strike="noStrike">
                <a:solidFill>
                  <a:srgbClr val="003399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99"/>
                </a:solidFill>
                <a:latin typeface="Comic Sans MS"/>
              </a:rPr>
              <a:t>if same pathogen returns memory cells stimulate the produce the specific antibody very rapidly.</a:t>
            </a:r>
            <a:endParaRPr b="0" lang="en-US" sz="26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99"/>
                </a:solidFill>
                <a:latin typeface="Comic Sans MS"/>
              </a:rPr>
              <a:t>the infection is fought off before symptoms appear = </a:t>
            </a:r>
            <a:r>
              <a:rPr b="1" lang="en-GB" sz="2600" spc="-1" strike="noStrike">
                <a:solidFill>
                  <a:srgbClr val="003399"/>
                </a:solidFill>
                <a:latin typeface="Comic Sans MS"/>
              </a:rPr>
              <a:t>secondary response</a:t>
            </a:r>
            <a:endParaRPr b="0" lang="en-US" sz="26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99"/>
                </a:solidFill>
                <a:latin typeface="Comic Sans MS"/>
              </a:rPr>
              <a:t>vaccines can stimulate same response</a:t>
            </a:r>
            <a:endParaRPr b="0" lang="en-US" sz="26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Immune system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Can you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Outline the stages in phagocytosis.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Describe how antibodies work and how they are specific.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First lines of defence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47280" y="3136680"/>
            <a:ext cx="2179800" cy="111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3399"/>
                </a:solidFill>
                <a:latin typeface="Comic Sans MS"/>
              </a:rPr>
              <a:t>    </a:t>
            </a:r>
            <a:r>
              <a:rPr b="1" lang="en-GB" sz="2100" spc="-1" strike="noStrike" u="sng">
                <a:solidFill>
                  <a:srgbClr val="3333ff"/>
                </a:solidFill>
                <a:uFillTx/>
                <a:latin typeface="Comic Sans MS"/>
              </a:rPr>
              <a:t>skin</a:t>
            </a:r>
            <a:r>
              <a:rPr b="0" lang="en-GB" sz="2100" spc="-1" strike="noStrike">
                <a:solidFill>
                  <a:srgbClr val="3333ff"/>
                </a:solidFill>
                <a:latin typeface="Comic Sans MS"/>
              </a:rPr>
              <a:t> prevents entry</a:t>
            </a:r>
            <a:endParaRPr b="0" lang="en-US" sz="21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96" name="Picture 4" descr="vbodyman"/>
          <p:cNvPicPr/>
          <p:nvPr/>
        </p:nvPicPr>
        <p:blipFill>
          <a:blip r:embed="rId1"/>
          <a:stretch/>
        </p:blipFill>
        <p:spPr>
          <a:xfrm>
            <a:off x="2700360" y="1916280"/>
            <a:ext cx="3852720" cy="4032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5435640" y="1197000"/>
            <a:ext cx="216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3399"/>
                </a:solidFill>
                <a:uFillTx/>
                <a:latin typeface="Comic Sans MS"/>
              </a:rPr>
              <a:t>tears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             antibacterial               enzymes</a:t>
            </a: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1763640" y="1268280"/>
            <a:ext cx="216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3399"/>
                </a:solidFill>
                <a:uFillTx/>
                <a:latin typeface="Comic Sans MS"/>
              </a:rPr>
              <a:t>saliva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antibacterial               enzymes</a:t>
            </a: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1547640" y="4365720"/>
            <a:ext cx="259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3399"/>
                </a:solidFill>
                <a:uFillTx/>
                <a:latin typeface="Comic Sans MS"/>
              </a:rPr>
              <a:t>stomach acid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             low pH kills harmful microbes</a:t>
            </a: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6372360" y="270828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ff"/>
                </a:solidFill>
                <a:uFillTx/>
                <a:latin typeface="Comic Sans MS"/>
              </a:rPr>
              <a:t>mucus</a:t>
            </a:r>
            <a:r>
              <a:rPr b="0" lang="en-GB" sz="2400" spc="-1" strike="noStrike">
                <a:solidFill>
                  <a:srgbClr val="3333ff"/>
                </a:solidFill>
                <a:latin typeface="Comic Sans MS"/>
              </a:rPr>
              <a:t> linings traps dirt and microbes</a:t>
            </a: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5796000" y="4508640"/>
            <a:ext cx="21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3399"/>
                </a:solidFill>
                <a:uFillTx/>
                <a:latin typeface="Comic Sans MS"/>
              </a:rPr>
              <a:t>“</a:t>
            </a:r>
            <a:r>
              <a:rPr b="1" lang="en-GB" sz="2400" spc="-1" strike="noStrike" u="sng">
                <a:solidFill>
                  <a:srgbClr val="003399"/>
                </a:solidFill>
                <a:uFillTx/>
                <a:latin typeface="Comic Sans MS"/>
              </a:rPr>
              <a:t>good” gut bacteria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out compete bad</a:t>
            </a: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02" name="Line 11"/>
          <p:cNvSpPr/>
          <p:nvPr/>
        </p:nvSpPr>
        <p:spPr>
          <a:xfrm flipV="1">
            <a:off x="1979640" y="2852280"/>
            <a:ext cx="1944720" cy="5050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03" name="Line 12"/>
          <p:cNvSpPr/>
          <p:nvPr/>
        </p:nvSpPr>
        <p:spPr>
          <a:xfrm flipH="1" flipV="1">
            <a:off x="4571640" y="2565360"/>
            <a:ext cx="1800360" cy="5032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04" name="Line 13"/>
          <p:cNvSpPr/>
          <p:nvPr/>
        </p:nvSpPr>
        <p:spPr>
          <a:xfrm flipH="1">
            <a:off x="4716000" y="1557360"/>
            <a:ext cx="647640" cy="6476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05" name="Line 14"/>
          <p:cNvSpPr/>
          <p:nvPr/>
        </p:nvSpPr>
        <p:spPr>
          <a:xfrm>
            <a:off x="3635280" y="1916280"/>
            <a:ext cx="936720" cy="4330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06" name="Line 15"/>
          <p:cNvSpPr/>
          <p:nvPr/>
        </p:nvSpPr>
        <p:spPr>
          <a:xfrm flipV="1">
            <a:off x="3348000" y="3357720"/>
            <a:ext cx="1295280" cy="10792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07" name="Line 16"/>
          <p:cNvSpPr/>
          <p:nvPr/>
        </p:nvSpPr>
        <p:spPr>
          <a:xfrm flipH="1" flipV="1">
            <a:off x="4642920" y="3573000"/>
            <a:ext cx="1081080" cy="11509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82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Pathogens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= disease causing micro-organisms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3399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575"/>
              </a:spcBef>
              <a:buClr>
                <a:srgbClr val="00cc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3399"/>
                </a:solidFill>
                <a:latin typeface="Comic Sans MS"/>
              </a:rPr>
              <a:t>bacteria</a:t>
            </a:r>
            <a:endParaRPr b="0" lang="en-US" sz="2300" spc="-1" strike="noStrike">
              <a:solidFill>
                <a:srgbClr val="003399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575"/>
              </a:spcBef>
              <a:buClr>
                <a:srgbClr val="00cc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3399"/>
                </a:solidFill>
                <a:latin typeface="Comic Sans MS"/>
              </a:rPr>
              <a:t>virus</a:t>
            </a:r>
            <a:endParaRPr b="0" lang="en-US" sz="2300" spc="-1" strike="noStrike">
              <a:solidFill>
                <a:srgbClr val="003399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575"/>
              </a:spcBef>
              <a:buClr>
                <a:srgbClr val="00cc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3399"/>
                </a:solidFill>
                <a:latin typeface="Comic Sans MS"/>
              </a:rPr>
              <a:t>fungi, </a:t>
            </a:r>
            <a:endParaRPr b="0" lang="en-US" sz="2300" spc="-1" strike="noStrike">
              <a:solidFill>
                <a:srgbClr val="003399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575"/>
              </a:spcBef>
              <a:buClr>
                <a:srgbClr val="00cc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3399"/>
                </a:solidFill>
                <a:latin typeface="Comic Sans MS"/>
              </a:rPr>
              <a:t>protozoa, </a:t>
            </a:r>
            <a:endParaRPr b="0" lang="en-US" sz="2300" spc="-1" strike="noStrike">
              <a:solidFill>
                <a:srgbClr val="003399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575"/>
              </a:spcBef>
              <a:buClr>
                <a:srgbClr val="00cc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3399"/>
                </a:solidFill>
                <a:latin typeface="Comic Sans MS"/>
              </a:rPr>
              <a:t>parasite, </a:t>
            </a:r>
            <a:endParaRPr b="0" lang="en-US" sz="2300" spc="-1" strike="noStrike">
              <a:solidFill>
                <a:srgbClr val="003399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575"/>
              </a:spcBef>
              <a:buClr>
                <a:srgbClr val="00cc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3399"/>
                </a:solidFill>
                <a:latin typeface="Comic Sans MS"/>
              </a:rPr>
              <a:t>prion</a:t>
            </a:r>
            <a:endParaRPr b="0" lang="en-US" sz="23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110" name="Picture 4" descr="bacecoli"/>
          <p:cNvPicPr/>
          <p:nvPr/>
        </p:nvPicPr>
        <p:blipFill>
          <a:blip r:embed="rId1"/>
          <a:stretch/>
        </p:blipFill>
        <p:spPr>
          <a:xfrm>
            <a:off x="5651640" y="1916280"/>
            <a:ext cx="2544480" cy="18396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pho_01"/>
          <p:cNvPicPr/>
          <p:nvPr/>
        </p:nvPicPr>
        <p:blipFill>
          <a:blip r:embed="rId2"/>
          <a:stretch/>
        </p:blipFill>
        <p:spPr>
          <a:xfrm>
            <a:off x="3564000" y="3068640"/>
            <a:ext cx="1619280" cy="2419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30005b"/>
          <p:cNvPicPr/>
          <p:nvPr/>
        </p:nvPicPr>
        <p:blipFill>
          <a:blip r:embed="rId3"/>
          <a:srcRect l="0" t="3780" r="0" b="4725"/>
          <a:stretch/>
        </p:blipFill>
        <p:spPr>
          <a:xfrm>
            <a:off x="5796000" y="4230720"/>
            <a:ext cx="266364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82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Second lines of defence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41000"/>
            <a:ext cx="598644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Involves white blood cells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99"/>
                </a:solidFill>
                <a:latin typeface="Comic Sans MS"/>
              </a:rPr>
              <a:t>Non-specific response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00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99"/>
                </a:solidFill>
                <a:latin typeface="Comic Sans MS"/>
              </a:rPr>
              <a:t>invading pathogens are targeted by macrophages</a:t>
            </a:r>
            <a:endParaRPr b="0" lang="en-US" sz="26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99"/>
                </a:solidFill>
                <a:latin typeface="Comic Sans MS"/>
              </a:rPr>
              <a:t>Specific response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00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99"/>
                </a:solidFill>
                <a:latin typeface="Comic Sans MS"/>
              </a:rPr>
              <a:t>lymphocytes produce chemicals called antibodies that target specific pathogens</a:t>
            </a:r>
            <a:endParaRPr b="0" lang="en-US" sz="26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115" name="Picture 4" descr="259"/>
          <p:cNvPicPr/>
          <p:nvPr/>
        </p:nvPicPr>
        <p:blipFill>
          <a:blip r:embed="rId1"/>
          <a:srcRect l="0" t="0" r="6890" b="0"/>
          <a:stretch/>
        </p:blipFill>
        <p:spPr>
          <a:xfrm>
            <a:off x="6012000" y="2276640"/>
            <a:ext cx="2447640" cy="18046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bact11"/>
          <p:cNvPicPr/>
          <p:nvPr/>
        </p:nvPicPr>
        <p:blipFill>
          <a:blip r:embed="rId2"/>
          <a:stretch/>
        </p:blipFill>
        <p:spPr>
          <a:xfrm>
            <a:off x="6443640" y="4292640"/>
            <a:ext cx="213840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Phagocytes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pic>
        <p:nvPicPr>
          <p:cNvPr id="118" name="Picture 3" descr="Blood"/>
          <p:cNvPicPr/>
          <p:nvPr/>
        </p:nvPicPr>
        <p:blipFill>
          <a:blip r:embed="rId1"/>
          <a:srcRect l="0" t="0" r="0" b="34121"/>
          <a:stretch/>
        </p:blipFill>
        <p:spPr>
          <a:xfrm>
            <a:off x="1066680" y="1752480"/>
            <a:ext cx="6264360" cy="4127760"/>
          </a:xfrm>
          <a:prstGeom prst="rect">
            <a:avLst/>
          </a:prstGeom>
          <a:ln w="0">
            <a:noFill/>
          </a:ln>
        </p:spPr>
      </p:pic>
      <p:sp>
        <p:nvSpPr>
          <p:cNvPr id="119" name="Line 4"/>
          <p:cNvSpPr/>
          <p:nvPr/>
        </p:nvSpPr>
        <p:spPr>
          <a:xfrm flipH="1" flipV="1">
            <a:off x="6372360" y="2852280"/>
            <a:ext cx="2016000" cy="647640"/>
          </a:xfrm>
          <a:prstGeom prst="line">
            <a:avLst/>
          </a:prstGeom>
          <a:ln w="38160">
            <a:solidFill>
              <a:srgbClr val="00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Phagocytes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85988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46040" indent="-44604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Comic Sans MS"/>
              </a:rPr>
              <a:t>Monocytes and macrophages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46040" indent="-44604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Comic Sans MS"/>
              </a:rPr>
              <a:t>Provide a non-specific response to infection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46040" indent="-44604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333399"/>
                </a:solidFill>
                <a:uFillTx/>
                <a:latin typeface="Comic Sans MS"/>
                <a:hlinkClick r:id="rId1"/>
              </a:rPr>
              <a:t>http://www.microbelibrary.org/images/tterry/anim/phago053.html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122" name="Picture 4" descr="Phagocytose"/>
          <p:cNvPicPr/>
          <p:nvPr/>
        </p:nvPicPr>
        <p:blipFill>
          <a:blip r:embed="rId2"/>
          <a:stretch/>
        </p:blipFill>
        <p:spPr>
          <a:xfrm>
            <a:off x="5486400" y="3429000"/>
            <a:ext cx="2482920" cy="25797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4303087"/>
          <p:cNvPicPr/>
          <p:nvPr/>
        </p:nvPicPr>
        <p:blipFill>
          <a:blip r:embed="rId3"/>
          <a:stretch/>
        </p:blipFill>
        <p:spPr>
          <a:xfrm>
            <a:off x="838080" y="3809880"/>
            <a:ext cx="3291120" cy="21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Phagocytosis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348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52160" indent="-4521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Stages in phagocytosis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lvl="1" marL="813960" indent="-379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Phagocyte detects chemicals released by a foreign intruder (e.g. bacteria)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lvl="1" marL="813960" indent="-379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Phagocyte moves up the concentration gradient towards the intruder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lvl="1" marL="813960" indent="-379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The phagocyte adheres to the foreign cell and engulfs it in a vacuole by an infolding of the cell membrane.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lvl="1" marL="813960" indent="-379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Lysosomes</a:t>
            </a: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 (organelles which are rich in digestive enzymes &amp; found in the phagocytes cytoplasm) fuse with the vacuole &amp; release their contents into it.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Phagocytosis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77565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831240" indent="-38772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The bacterium is digested by the enzymes, and the breakdown products are absorbed by the phagocyte.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marL="461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marL="461880" indent="-4618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During infection, hundreds of phagocytes are needed.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marL="461880" indent="-4618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Pus is dead bacteria and phagocytes!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marL="461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marL="461880" indent="-4618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link to phagocytosis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Pus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36800" y="1846080"/>
            <a:ext cx="3925800" cy="36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An accumulation of : -</a:t>
            </a: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dead phagocytes</a:t>
            </a: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destroyed bacteria</a:t>
            </a: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dead cells</a:t>
            </a: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130" name="Picture 4" descr="acne2"/>
          <p:cNvPicPr/>
          <p:nvPr/>
        </p:nvPicPr>
        <p:blipFill>
          <a:blip r:embed="rId1"/>
          <a:stretch/>
        </p:blipFill>
        <p:spPr>
          <a:xfrm>
            <a:off x="539640" y="1700280"/>
            <a:ext cx="374328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>the immune system phagocytosis</dc:description>
  <cp:keywords>the immune system phagocytosis</cp:keywords>
  <dc:language>en-US</dc:language>
  <cp:lastModifiedBy>LEGION</cp:lastModifiedBy>
  <dcterms:modified xsi:type="dcterms:W3CDTF">2015-09-18T10:32:23Z</dcterms:modified>
  <cp:revision>7</cp:revision>
  <dc:subject>the immune system phagocytosis</dc:subject>
  <dc:title>the immune system phagocytosis antibody fun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